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712-0C64-4C64-9FA2-0541FE50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2AE-DBF5-47CE-9C81-AA964842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55B191-1B7F-414D-91F6-5FCF5660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697F3A-1E25-4540-8332-4B1E28C4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940D8D-61F8-4515-89AA-7E234C0F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1B91FC-DB58-41AD-8497-E2373C42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92E591-11A7-470A-9897-2E0FBCA3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0F21CB-B803-41A3-A896-A50D6B5D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C2696B-F794-4644-9D76-B05F76F0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EB093E-4FAF-41CC-8DEC-2AEC2E56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F56961-02C3-4F12-AA1A-A80C9BA5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70A-7E3F-4F99-8A16-33D0F5B3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6BB2-02EC-4429-884E-A04E9163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790CC-C066-4B93-9186-B3A81D13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76EED-06AE-4706-AAF8-F4E13CC4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9CA17-B9C5-45CD-861F-158B64BF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F0723-213C-4E2B-8895-0A7FC951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342F1-DDBA-4485-ACF5-FC114A04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E93DE-888B-4849-B730-C53E072A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9FF27-FB71-4AD2-9C1E-0E380423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8CE-F5FF-4477-8D57-B17FECC7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01DD0-83BD-4435-86B6-DEE0EF8B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B95A8-B377-4973-A9AB-5215C47A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F8A73-600E-4AB3-8890-26816A9D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7D465-768A-4760-ABD7-00E37237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FF1FA-0893-4028-9A9A-AFC698BA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0C5E0-7C17-465C-8E59-E634A29C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57194-0718-4E41-ADB0-F66424FF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175C9-46CF-44EE-B182-73723CFE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9C856-00CB-415D-83AD-E3938BC4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0C59A-AEC3-47E7-A8DA-CE8B6535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D39-3C64-4ACB-9932-430F3243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7309D-5264-4790-A624-71405971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BECB5-8EB9-4AC5-BEC1-B4EA56FC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291BB-5E5E-4374-9180-1B195412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512D-C4E1-4957-9ED7-6541DC9C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AEE5-3009-4FFA-8C90-B6C6A0DD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9EB20-47BF-40F5-9DC8-53D7FAFE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647C-A606-4E98-AB17-174F35F0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BE8F7-3BF0-4C96-AEA5-A8CDC723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E1D01F-649F-4F84-91EB-C878D81E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A6BB3-4EE8-4CDC-9298-907625F9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B55-DA79-4462-8FA6-974ED605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F0140E-2A28-4CBB-B447-833694E6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25763C-7106-4F54-8A4A-F450E2D5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AEF02E-B72D-4596-80A4-CF05F38C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6E93F4-F540-4AB3-8677-0563A533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A4128-A868-4FC5-9B2A-547783CF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4DDB64-DBD1-41AE-B212-05E05DCA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E5B90F-BC48-42EB-AC27-DC99A34D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AB457-E879-48B0-B4C8-AC2DD29D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49D88-7096-455C-865C-58783D6B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C82C3-7EAB-4BEC-8DDA-6E768CD2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F65-4E3C-40B0-B9F7-C7AC3793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EF1B7-94A5-42C8-841B-5A90A601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45D8F-F21E-4993-A809-3B6360D1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462B4-A9DE-435D-A4A7-CD3F9F2A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72F62-15D5-4B3C-995A-4B8601EE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CE213-51ED-464D-A704-F8007C04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AADE1-7624-4B91-A3B4-6CBEAD5D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AEE52-5B5C-4440-8C7B-C59B8503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7466C-DAD9-4FE7-B541-15D97557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78DAB-9D34-4E1C-81EC-94404666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45EDA-4525-46B1-AFB0-FD9AAD1B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487-A34D-4FDC-B29A-CB4A355F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25786-529B-41AE-B7D6-18AF2B1D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23CD1-AFFE-4FD3-B7D9-8734A125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411D9-4613-40B2-A728-D35E1DBE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5F58A-DB28-4F40-B7C9-0CFB5066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C85F7-F56F-4FD4-A097-7B6EB59F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5B492-D3DA-496F-AEC3-C010C56B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48D86-F2C1-44F9-932F-4CEC274D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DF37B-DA28-4A32-B6B7-0CCD37A4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8835C-5D83-4AB9-BE0E-4BCBE65D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F9B5F-A39E-48C5-87E0-598EC6A9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10A-49A0-4C43-B65C-9D128AAF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47704-B38A-49F6-8BA8-383026A3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B8A17-B872-49AB-9BFA-DFB60E29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09813-5735-43AB-BE3C-4EFDC00D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56927-0DF5-4E7D-92BC-E2381DFA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73C21-BB29-4C9D-8BC2-B6D63448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3DA16-F74C-4E5B-8370-62C8157F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80CD8-56BF-4CF0-B435-90419CCC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29E58-9D6B-45A4-8C8C-C22785A4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CC577-4728-4E9A-858A-CBB19BA5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E5886-9400-42EF-A1AD-A73B267A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243-C069-4CA3-B8FA-A06908E5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1980F-9323-4F3C-89FD-14D36E4E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C2101-B347-41EC-9D65-DE2D94A9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36E6F-C2E9-475F-A658-9762616C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E71B0-67B3-42E4-9E5B-1E2ACA1F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B759A-076A-45A9-A01B-E1DBDB23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105261-74CB-45F3-A25A-8968647E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42BDF0-7F5F-44A9-B28E-946908D5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0E0C05-1174-48AD-A956-EEAC7661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BAF0C1-CC0B-4C8B-8E93-FB361CA2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45574E-4ECB-4ACE-9108-0C462EBD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43F-F593-46B0-844C-89070E90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C1764B-7FAD-4ECA-B773-13E16A72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418998-791C-4091-BB87-FCE1B052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42E0F3-D2E1-42C5-8C60-A1796919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ACE4BB-8B2C-498C-8651-EF828B61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6C6896-77DB-4803-B261-8743DED5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3672C9-BF4C-4DDE-B29E-88DF61A2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7E5E41-26AA-4CB1-98F5-9A365637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77E595-55C3-4523-986A-41E0581F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476089-FD93-4468-92DA-667BFD6C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5ADBE5-CC61-432F-8B9C-798BA769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tonda angolo diagonale rettangolo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tonda angolo diagonale rettangolo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3B0F-50F5-4A6C-9576-46F2AC27CCDF}" type="slidenum">
              <a:rPr b="0" lang="it-IT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tonda angolo diagonale rettangolo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tonda angolo diagonale rettangolo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2455-AECF-4364-9DF7-F654BAB75FB8}" type="slidenum">
              <a:rPr b="0" lang="it-IT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tonda angolo diagonale rettangolo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tonda angolo diagonale rettangolo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ttangolo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93D2-5A9F-44EE-BE6F-B40914BA07BF}" type="slidenum">
              <a:rPr b="0" lang="it-IT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tangolo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1539-EA4E-447D-985E-CCB9407795DF}" type="slidenum">
              <a:rPr b="0" lang="it-IT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tonda angolo diagonale rettangolo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tonda angolo diagonale rettangolo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ttangolo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362E-13E4-404D-AFE0-2A4A75E2EFA0}" type="slidenum">
              <a:rPr b="0" lang="it-IT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tonda angolo diagonale rettangolo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tonda angolo diagonale rettangolo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ttangolo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ttangolo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3444-2826-4BB8-9D2A-93B540409C30}" type="slidenum">
              <a:rPr b="0" lang="it-IT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tonda angolo diagonale rettangolo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tonda angolo diagonale rettangolo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ttangolo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C598-0794-45DF-8F65-511E763311EC}" type="slidenum">
              <a:rPr b="0" lang="it-IT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ttangolo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AB7B-3B36-41B1-9977-83E6BCB226C7}" type="slidenum">
              <a:rPr b="0" lang="it-IT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7DF5-745B-4697-8751-B2037D8BE45E}" type="slidenum">
              <a:rPr b="0" lang="it-IT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olo 3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598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28400" y="-397800"/>
            <a:ext cx="825804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Per Hume “percezione” è ciò che era “idea” per Locke: tutto ciò che ci passa per la mente.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Le percezioni si distinguono (ma è solo questione di grado, di “vivacità”) in </a:t>
            </a:r>
            <a:r>
              <a:rPr b="0" i="1" lang="it-IT" sz="1700" spc="-1" strike="noStrike">
                <a:solidFill>
                  <a:srgbClr val="ffffff"/>
                </a:solidFill>
                <a:latin typeface="Rockwell"/>
              </a:rPr>
              <a:t>impressioni</a:t>
            </a: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 (percezioni semplici) e </a:t>
            </a:r>
            <a:r>
              <a:rPr b="0" i="1" lang="it-IT" sz="1700" spc="-1" strike="noStrike">
                <a:solidFill>
                  <a:srgbClr val="ffffff"/>
                </a:solidFill>
                <a:latin typeface="Rockwell"/>
              </a:rPr>
              <a:t>idee</a:t>
            </a: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 (percezioni complesse) – corripondenti alle “sensazioni” (primarie e secondarie) e alla “riflessione” di Locke.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ffffff"/>
                </a:solidFill>
                <a:latin typeface="Rockwell"/>
              </a:rPr>
              <a:t>Epochè</a:t>
            </a: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 di Hume: chiamarsi fuori dalla metafisica (Kant, pragmatismo, neopositivismo, Wittgenstein). Il compito del filosofo, o della ragione, non è operare una scelta intorno alla nozione di realtà fra realismo, idealismo o fenomenismo: si deve solo occupare dei materiali e processi della nostra mente/esperienza a prescindere da ogni qualificazione della realtà (sostanza) eventalmente loro causa.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Per il razionalista (da Parmenide e Platone) il filosofo indaga la natura ultima delle cose; per Hume (e il neopositivismo) è il ciarlatano che s’illude di quest’impresa e s’illude tanto sulla sua riuscita quanto sulla sua possibilità (e sul fatto che abbia senso). Ammoniscono dal tentarla invece i paralogismi di Kant.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Hume supera gli ultimi residui metafisici di Locke (il realismo) e di Berkeley (l’ordine divino) aprendo la via a Kant.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Uno stesso contenuto empirico (e non c’è o non si dà altro che questo: fenomeni) può essere dato o come impressione (esperienza sensibile) o come idea (rappresentazione mentale, che quindi si riduce alla prima).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8400" y="-397800"/>
            <a:ext cx="825804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28400" y="214200"/>
            <a:ext cx="825804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Le idee (i concetti, le astrazioni) sono immagini illanguidite delle percezioni, che sono il tutto inevitabile rispetto al quale possiamo soltanto esperire direttamente o ricordare.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Le idee semplici hanno, come in Locke, impressioni semplici che rappresentano esattamente . Noi abbiamo un contatto diretto con la realtà (cui apparteniamo) – anche se a differenza di quanto credeva Locke non possiamo né dobbiamo (non ci è necessario per vivere meglio) qualificare ulteriormente quella realtà con cui veniamoi a contatto, o meglio, in cui siamo immersi a da cui – trattandosi solo di fenomeni – non ci distinguiamo, non  si distingue propriamente un “io” (non distinguendosi sostanze/identità).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Mentre le impressioni producono idee, le idee non producono impressioni (che se fossero prodotte non sarebbero tali) – non possiamo, a parole, far fare ad altri o a noi stessi l’esperienza del rosso o dell’amaro. Vi sono solo le “impressioni di riflessioni” generate dalle idee.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ffffff"/>
                </a:solidFill>
                <a:latin typeface="Rockwell"/>
              </a:rPr>
              <a:t>Associazione</a:t>
            </a: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 tra le idee. Per contiguità (spaziale e temporale – a cui si riduce anche la causalità) – per somiglianza.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ffffff"/>
                </a:solidFill>
                <a:latin typeface="Rockwell"/>
              </a:rPr>
              <a:t>Abitudine</a:t>
            </a: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. Uno dei tre stati psicologici fondamentali – gli altri due sono l’associazione, su citata, e l’</a:t>
            </a:r>
            <a:r>
              <a:rPr b="0" i="1" lang="it-IT" sz="1700" spc="-1" strike="noStrike">
                <a:solidFill>
                  <a:srgbClr val="ffffff"/>
                </a:solidFill>
                <a:latin typeface="Rockwell"/>
              </a:rPr>
              <a:t>immaginazione</a:t>
            </a: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 (lo stato in cui la nostra mente è più attiva ma, perciò, anche più staccata dai fenomeni empirici) – nella teoria della conoscenza di Hume (che così si rivela più una psicologia che un’epistemologia; errore poi emendato da Kant). Su di essa si fonda il nostro senso della realtà (espresso dalla credenza in generale e dalla credenza nella “causalità” in particolare).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400" y="-443880"/>
            <a:ext cx="825804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Rockwell"/>
              </a:rPr>
              <a:t>Hume può essere accusato di incorrere in una </a:t>
            </a:r>
            <a:r>
              <a:rPr b="0" i="1" lang="it-IT" sz="1400" spc="-1" strike="noStrike">
                <a:solidFill>
                  <a:srgbClr val="ffffff"/>
                </a:solidFill>
                <a:latin typeface="Rockwell"/>
              </a:rPr>
              <a:t>metabasis eis allo genos</a:t>
            </a:r>
            <a:r>
              <a:rPr b="0" lang="it-IT" sz="1400" spc="-1" strike="noStrike">
                <a:solidFill>
                  <a:srgbClr val="ffffff"/>
                </a:solidFill>
                <a:latin typeface="Rockwell"/>
              </a:rPr>
              <a:t>: tenta di risolvere problemi epistemologici psicologicamente. 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Rockwell"/>
              </a:rPr>
              <a:t>Prendendo l’avvio dalle impressioni piuttosto che dalle cose, Hume non voleva dirci che le cose si risolvono in impressioni (metafisica) – ma in che modo, a partire da dati sensoriali, si arriva ad una nozione di mondo (epistemologia declinata psicologicamente). 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Rockwell"/>
              </a:rPr>
              <a:t>In Hume non ci si pone il problema della struttura della realtà ma della struttura dell’esperienza nella quale la realtà si manifesta (fine della metafisica; e l’inizio della fine s’era avuto con Descartes, da cui poi Kant e la riduzione della filosofia ad epistemologia). 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Rockwell"/>
              </a:rPr>
              <a:t>Ci sono impressioni e idee. Le idee derivano dalle impressioni. Da che cosa derivano le impressioni? Non ci riguarda (pena cadere nella metafisica, i cui libri vanno bruciati). 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Rockwell"/>
              </a:rPr>
              <a:t>Per Berkeley (e Locke e Descartes) il principio metodico si converte in conclusione ontologica. Per Hume no, che così si salva dalla metafisica e dai suoi paralogismi (Kant). 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Rockwell"/>
              </a:rPr>
              <a:t>È improprio parlare di mondo esterno o trascendente le percezioni – non perché non esista ma perché non mi è, in quanto tale e per definizione, accessibile. (Così però, e anche in buona parte di quanto detto prima, si dà di Hume una lettura forse troppo kantiana; per quanto un eccesso opposto possa portare a fornirne una troppo fenomenistica in senso atomistico e a fare di Hume un d’Holbach). 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Rockwell"/>
              </a:rPr>
              <a:t>L’immaginazione  e la credenza, se da una parte ci danno la possibilità di vivere (continuità, causalità, trascendenza, mondo esterno – sono finzioni e noi viviamo grazie ad esse) – dall’altra ci illudono di avere accesso a qualcosa, come le “cose”, di diverso dalle percezioni (che Hume a rigori e a differenza di Leibniz con le monadi, non qualifica né spiritualmente né materialmente) e che ricorda la sostanza. 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Rockwell"/>
              </a:rPr>
              <a:t>Quello di Hume è, come il kantiano, uno scetticismo moderato. Col fine di ricordarci i limiti della ragione e non farci incorrere in illusioni più gravi delle necessarie (da cui poi, fra l’altro, come ha mostrato Locke criticando le idee innate, intolleranza e preconcetti). 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36:55Z</dcterms:created>
  <dc:creator>Tommaso</dc:creator>
  <dc:description/>
  <dc:language>en-US</dc:language>
  <cp:lastModifiedBy>Tommaso</cp:lastModifiedBy>
  <dcterms:modified xsi:type="dcterms:W3CDTF">2010-03-21T18:30:15Z</dcterms:modified>
  <cp:revision>7</cp:revision>
  <dc:subject/>
  <dc:title>Hume </dc:title>
</cp:coreProperties>
</file>