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problema della percezione del mondo nella filosofia mod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C58-B457-4489-97BC-20E16C4832F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egnaposto piè di pagina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FFA-A528-4E17-8EA0-5811C135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612-26A8-424D-BD3A-006A2B78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D0A-8231-4456-A08F-CBD51554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D5F-4CBF-43DB-A2E3-4BC4FC9C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4CFD-E468-42E1-A564-63FB375F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A65-8892-4A7C-8D53-42D63B14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C98C-920B-4859-B7F9-0DC5943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12C-4F23-4554-9571-F7238CB7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CF7B-F393-4FF2-A322-6EE302EC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6CB-DA61-466A-8807-1DD009E0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0FF-DC98-459C-B65E-565CDA2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D31-4666-4077-8CCF-7D4A84A2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D6B5-6BE6-45AC-9028-5F1A2DF2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7495-058C-4FDE-9B8F-2835C58D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A27E-DCB7-4102-8BDD-B45CF02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AC70-9136-4D28-A337-8111F694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1DE7-82C1-4D3C-BCC0-B10AB096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85D82-B512-46F2-A792-BB9A5FC9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285ADD-71B3-4C4C-B4AE-38E2D34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A33DF-9E69-4528-B8FD-BCE0357C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3F6CB-7A50-4A6C-BC45-0AB086A7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B3010-3470-4F0D-B85F-9C4D2F6A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E3C-7979-4941-9C18-A8616298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092AC-A2BA-4C5E-8B53-C79CAF72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FB184-FCD7-4506-B2EC-9BBDD14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264D1-30DC-4AFB-900E-29A1E51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A0609-1922-4198-90FB-9DE9ED2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B5B5B-8101-49F4-BEE4-9760928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A32F6-7589-41C0-BFA6-DEF0D576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FA745-4669-4836-BC86-41FD323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DD4A-E33B-44BB-9731-19DFDE92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0A014-AB3D-4D69-BB18-69ADF82E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03A6-BF97-4E2F-8030-46D0A4D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457-F6BE-4B79-9C63-89FA8658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A8B0-B68E-4543-AA0E-9D2DF14E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6ECA-624D-4DE4-ADF0-ED5F5E9D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AD5C-FEA2-4BF9-AE1A-5971F224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57A4-FEAE-4D53-85BC-1EC1DCDE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DF88-B5A2-4FE4-98D2-A9F44B8E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F270-A309-44D7-B711-D0DC33D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1BA4-73C7-4629-8AD6-698AF39B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D84A-3EDE-4C87-B9B0-A4CBF4DE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8A8F4-DB33-4130-B180-5F08E7BE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17F554-A8F2-4BBE-ADBD-08AA82B4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AB25-1149-4748-9835-9363334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3ECC4-5143-4426-AB5F-0219BEF2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9CB68-0A1E-4641-9368-A5DFFB30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FE1C1-6973-4FF3-83B8-92EF9B9C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B73969-ACB0-48D7-85B1-21049FF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668BE-99FB-48E7-AB19-51834467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46555-D9BD-4020-BDD4-FCA48E7E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B802E-3C6E-40D3-9B06-ED95B41C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54032-FC4C-450C-A1E6-B4A7DF6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BF405-DAB9-4243-B17F-CDA1E6D8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83DAE-45C6-4985-BE35-C5A8A9B1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707-5033-4EE3-BFC4-7897EDC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C4FD2-5CAB-41A3-BE2A-A5BB289E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E5D2B-8F7F-4708-AB0C-E9E9F730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D8415-70C9-418C-B4BD-09917A43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09593-0F4F-4CBD-9FED-3B5505E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57DD7-08C8-4AC5-8764-253D72D8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53BCE-F143-4320-99D5-B64B5794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741E8-FB9D-46E9-8F32-EA96AF19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A86CF-DAD1-4EDE-8D16-0C812A4E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4C23C-9BC4-434E-B9A4-4714F54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B59D5-933A-4617-972B-07DCF897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973-71EB-46B9-AD04-DB0D342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2AB940-03DA-4114-BA1E-CAE21C8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C9D12-7052-46BF-AE64-40C6A31A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27DD5-B753-4671-8601-59070F72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7E36EE-1A3D-4C11-A7CE-25914018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3B25F-4016-4C90-8278-4B9BC572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C555B-9E5C-465C-A641-BC9FB94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F9AE3-7BA2-4ED5-AB76-5EF847F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81DDC-0702-4FA6-A4F5-3C000E01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4381E-35BD-4462-AA6E-D047BCEB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865FA-D7BA-45F2-BCB6-7D04064C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CD4-C4DF-4E26-A290-48CC6D9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F4839C-9FB8-4C1D-93E4-4E66A56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41694-ED9B-43FB-930E-9A544255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EFF609-E710-4647-BB00-8AEA3449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6C007-D66A-4E9B-BA32-79DC05E3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30E5D-FEB4-4196-8E4A-040D50EA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A2A-2314-470E-80DB-670F3662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2E80-9BC0-4123-B56B-4D3BACD40990}" type="datetime"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Il problema della percezione del mondo nella filosofia mod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648B-E889-4784-BF92-4325EB6CCE69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AFD8-2C7C-49B9-AFFA-682AF92E9482}" type="datetime"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Il problema della percezione del mondo nella filosofia mod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5731-BA42-4F3A-AB99-B2D06955072D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2C9E-072B-4647-AF8B-F1E89B68AB5E}" type="datetime"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7C81-8323-4ACE-897D-CF2F12A8838D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Il problema della percezione del mondo nella filosofia mod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nettore 1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D66E-BAA5-4187-AD76-B5645D04EFD4}" type="datetime">
              <a:rPr b="0" lang="it-IT" sz="1200" spc="-1" strike="noStrike">
                <a:solidFill>
                  <a:srgbClr val="e3ded1"/>
                </a:solidFill>
                <a:latin typeface="Century Schoolbook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3ded1"/>
                </a:solidFill>
                <a:latin typeface="Century Schoolbook"/>
              </a:rPr>
              <a:t>Il problema della percezione del mondo nella filosofia moder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A741-79B7-456C-AE7D-005F9C23B4FA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5ADE-7836-40D3-B69C-A3111B093BC2}" type="datetime"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D367-624B-49C6-86F5-1A746D6DFC47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Il problema della percezione del mondo nella filosofia mod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nettore 1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nettore 1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E631-EB1D-4F69-883C-6EA20767A444}" type="datetime"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3525-B86D-4928-9E03-18B1E34575DE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Il problema della percezione del mondo nella filosofia mod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nettore 1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nettore 1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ttore 1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nettore 1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5E23-94D1-4BD5-AA29-A0383C53EA94}" type="datetime"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0317-37FA-4B80-99A1-44C954CCF05A}" type="slidenum">
              <a:rPr b="1" lang="it-IT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23232"/>
                </a:solidFill>
                <a:latin typeface="Century Schoolbook"/>
              </a:rPr>
              <a:t>Il problema della percezione del mondo nella filosofia moder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2960" y="228600"/>
            <a:ext cx="81201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it-IT" sz="3600" spc="-1" strike="noStrike">
                <a:solidFill>
                  <a:srgbClr val="ff0000"/>
                </a:solidFill>
                <a:latin typeface="Century Schoolbook"/>
              </a:rPr>
              <a:t>PRINCIPALI OPZIONI SUL PROBLEMA PERCEZIONE/MONDO NELLA FILOSOFIA MODERNA (’6-’700)</a:t>
            </a: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1. REALISMO DIRETTO O INGENUO. </a:t>
            </a:r>
            <a:br>
              <a:rPr sz="3000"/>
            </a:b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ff0000"/>
                </a:solidFill>
                <a:latin typeface="Century Schoolbook"/>
              </a:rPr>
              <a:t>È la posizione del senso comune: da una parte ci sono degli oggetti indipendenti e dall’altra una mente che li percepisc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2. REALISMO SCIENTIFICO (LOCKE, E CON QUALCHE APPROSSIMAZIONE: GALILEI, DESCARTES, </a:t>
            </a:r>
            <a:br>
              <a:rPr sz="2400"/>
            </a:br>
            <a:r>
              <a:rPr b="0" lang="it-IT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EOPOSITIVISMO NOVECENTESCO).    </a:t>
            </a:r>
            <a:endParaRPr b="0" lang="en-US" sz="24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entury Schoolbook"/>
              </a:rPr>
              <a:t>Il mondo esterno possiede solo quelle che per noi sono le “qualità primarie” (= elementi sensoriali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entury Schoolbook"/>
              </a:rPr>
              <a:t>Tutto il resto sono nostre idee, che però, se adeguate, possono avere con le cose del mondo una stretta relazione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entury Schoolbook"/>
              </a:rPr>
              <a:t>Es. Se io percepisco una macchia rossa, il rosso è nella mia mente e non nel mondo; tuttavia la macchia (la sua struttura ecc.) è là fuori nel mondo: è la “cosa” che causa in me (il “modo” costituito da) la visione del rosso.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entury Schoolbook"/>
              </a:rPr>
              <a:t>Le idee o “qualità secondarie”, se adeguate, ci parlano del mondo ma ce ne parlano a loro modo, che nel nostro caso è l’umano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3. REALISMO DEBOLMENTE RAPPRESENTATIVO (KANT).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entury Schoolbook"/>
              </a:rPr>
              <a:t>Niente può esser detto sul mondo esterno, che pure esiste, eccetto quanto ha a che fare col nostro apparato percettivo. Non possiamo parlare del fuori, che c’è, se non tramite il dentr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entury Schoolbook"/>
              </a:rPr>
              <a:t>Metafora. Abbiamo delle lenti colorate davanti agli occhi e tutto ciò che vediamo lo vediamo tramite queste lenti che non possiamo toglierci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4. IDEALISMO (BERKELEY). 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entury Schoolbook"/>
              </a:rPr>
              <a:t>Non c’è niente se non le nostre esperienze e queste sono ordinate da Di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Century Schoolbook"/>
              </a:rPr>
              <a:t>5. SCETTICISMO O FENOMENALISMO (HUME).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entury Schoolbook"/>
              </a:rPr>
              <a:t>Non c’è niente se non le nostre esperienze e non c’è neanche da aggiungere niente oltre a questo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entury Schoolbook"/>
              </a:rPr>
              <a:t>Si tratta di uno stato di fatto da prendere come ta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9:35:20Z</dcterms:created>
  <dc:creator>Tommaso</dc:creator>
  <dc:description/>
  <dc:language>en-US</dc:language>
  <cp:lastModifiedBy>Tommaso</cp:lastModifiedBy>
  <dcterms:modified xsi:type="dcterms:W3CDTF">2010-03-18T12:00:55Z</dcterms:modified>
  <cp:revision>15</cp:revision>
  <dc:subject/>
  <dc:title>Diapositiva 1</dc:title>
</cp:coreProperties>
</file>