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80A-2570-4381-B1D5-597AA46F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08C-01BE-49EC-BC9A-17E201DE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2EE-E4F7-4F44-8DEF-06E6FD9B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6EA-FC2E-40FB-B035-7D22D3E7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A6C-408F-4456-93C7-C38E2BC9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B0A-BC06-4583-8FF4-AF48DBBB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69F-60D1-4D78-8275-2833018E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F11-2D0E-4D6E-A235-5649F1D9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F338-899B-4528-8155-C3475650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096-1138-478A-9B34-F1904494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258-494E-4F85-885F-7C32065E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38B4-E6DD-45D9-971E-C9B3CC99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8BA2-2CDE-40C8-83A3-A7EC5875AB7D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Dall’abaco all’i-Pad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da Pascal all’informatica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Ma il campo della semiotica è troppo vasto e – ancora – siamo molto lontani dall’essere in grado di trattare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tutti i segni 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con matematica e macchine, con software e hardware. Pertanto l’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informazione 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che interessa l’informatica sarà qualcosa di più ristretto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Non sarà l’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informazione 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che si ricava dall’Ufficio informazioni turistiche né da una novella di Boccaccio che pure – entrambe le informazioni – costituisono ancor oggi per l’uomo le forme di informazione più quotidiane.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L’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informazione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 che interessa all’informatica (e che essa è in grado di trattare) è quella della suddivisione – filosoficamente discutibilissima – della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fisica 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(sia della disciplina che della realtà) in tre dimensioni: 1) materia; 2) energia; 3) informazione. 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A partire da questa suddivisione, il campo semantico e disciplinare si è ulteriormente risretto e dalla metà degli anni Cinquanta si ha un settore di quella che poi sarà l’informatica dedicato alla “teoria dell’informazione”, per il quale l’</a:t>
            </a:r>
            <a:r>
              <a:rPr b="0" i="1" lang="it-IT" sz="4000" spc="-1" strike="noStrike">
                <a:solidFill>
                  <a:srgbClr val="ffffff"/>
                </a:solidFill>
                <a:latin typeface="Calibri"/>
              </a:rPr>
              <a:t>informazione </a:t>
            </a: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(minima) è una “cifra binaria” o BI(nary) (digi)T.</a:t>
            </a:r>
            <a:br>
              <a:rPr sz="4000"/>
            </a:b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Es. di BIT: 0/1; acceso/spento; dx/sx; testa/croce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Domanda: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Come si può automatizzare efficientemente un dato processo?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Risposta (dell’informatica):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Riducendo l’INFORMAZIONE (o il processo) a BIT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I nostri computer – nella misura in cui possono essere considerati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automatici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 ed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efficaci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 –testimoniano la validità di questa risposta.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I famosi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byte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 – l'unità di misura della capacità di memoria di un elaboratore elettronico – non sono altro che stringhe di BIT.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Un passo decisivo per giungere al BIT – e quindi a quella che tutt’oggi è l’automatizzazione più efficace di un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dato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 (nel senso che va dato: senza uomini o imput esterni niente computer …) processo – oltre a Pascal nel 1642, lo ha compiuto ALAN TURING nel 1936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362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Calibri"/>
              </a:rPr>
              <a:t>Anche Turing, come Pascal, unì pratica e teoria, concreto e astratto, geometria e ingegneria. Durante la seconda guerra mondiale T. contribuì a decrittare il codice Enigma usato dai tedeschi per le comunicazioni radio. Ma già nel 1936, a 24 anni,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nell’articolo </a:t>
            </a: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On computable numbers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, aveva progettato I nostri computer.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Una “macchina di Turing” (che T. aveva solo ideato e che noi abbiamo in parte ralizzato con i nostri computer) è costituita da un nastro diviso in campi, il quale può scorrere in un senso o nell'altro all’</a:t>
            </a:r>
            <a:r>
              <a:rPr b="1" i="1" lang="it-IT" sz="2800" spc="-1" strike="noStrike">
                <a:solidFill>
                  <a:srgbClr val="ffffff"/>
                </a:solidFill>
                <a:latin typeface="Calibri"/>
              </a:rPr>
              <a:t>infinito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; ciascun campo è adatto a contenere esattamente un simbolo di un ben determinato alfabeto </a:t>
            </a:r>
            <a:r>
              <a:rPr b="1" i="1" lang="it-IT" sz="2800" spc="-1" strike="noStrike">
                <a:solidFill>
                  <a:srgbClr val="ffffff"/>
                </a:solidFill>
                <a:latin typeface="Calibri"/>
              </a:rPr>
              <a:t>finito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. La macchina inoltre possiede una memoria, capace di ritenere un numero finito di istruzioni, e un "occhio" in grado di esaminare esattamente un campo per volta. Una macchina di T., trovandosi di fronte a determinati simboli scritti (in conformità di precise istruzioni), esegue il relativo calcolo e si porta in una nuova posizione finale esibendo il risultato del calcol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Insomma: una macchina di Turing – o il tuo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computer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 – è il mezzo per risolvere tutti i problemi risolvibili eseguendo ordini o algoritmi.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351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Unendo pratica e teoria, concreto e astratto, geometria e ingegneria (o quel che Leonardo e Galilei chiamavano esperienza/senso e dimostrazione/matematica) nel 1642 Pascal costruisce uno strumento di calcolo per aiutare il padre in operazioni finanziarie (riscossione di tasse)  </a:t>
            </a:r>
            <a:br>
              <a:rPr sz="2500"/>
            </a:b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</a:t>
            </a:r>
            <a:r>
              <a:rPr b="0" lang="it-IT" sz="1400" spc="-1" strike="noStrike">
                <a:solidFill>
                  <a:srgbClr val="ffffff"/>
                </a:solidFill>
                <a:latin typeface="Calibri"/>
              </a:rPr>
              <a:t>Massys, Il banchiere e sua moglie, 151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336920" cy="237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43196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Turing, con il computer, ha allora dato una soluzione a quelli che da sempre sono i due tormenti umani – la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conoscenza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 e la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felicità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 (o il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bene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)?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NO.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E fu Turing stesso a dimostrarlo.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Per quanto riguarda la </a:t>
            </a:r>
            <a:r>
              <a:rPr b="0" i="1" lang="it-IT" sz="4000" spc="-1" strike="noStrike">
                <a:solidFill>
                  <a:srgbClr val="ffffff"/>
                </a:solidFill>
                <a:latin typeface="Calibri"/>
              </a:rPr>
              <a:t>felicità</a:t>
            </a: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 (o il </a:t>
            </a:r>
            <a:r>
              <a:rPr b="0" i="1" lang="it-IT" sz="4000" spc="-1" strike="noStrike">
                <a:solidFill>
                  <a:srgbClr val="ffffff"/>
                </a:solidFill>
                <a:latin typeface="Calibri"/>
              </a:rPr>
              <a:t>bene</a:t>
            </a: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) questa non è pertinenza informatica e comunque Turing morì nel più infelice dei modi: suicida a 41 anni – l’anno che in Italia giunse la TV – in seguito a una persecuzione omofobica condotta nei suoi confronti da quella stessa patria che durante la guerra aveva così tanto beneficiato (così tanto che senza Turing forse avrebbero vinto i nazisti …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Ma anche per quanto riguarda la conoscenza (o l’elaborazione dell’informazione) già Turing aveva posto dei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limiti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 (parola di Kant e di Gödel) alla sua “macchina ideale”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Quell’articolo – </a:t>
            </a:r>
            <a:r>
              <a:rPr b="0" i="1" lang="it-IT" sz="4000" spc="-1" strike="noStrike">
                <a:solidFill>
                  <a:srgbClr val="ffffff"/>
                </a:solidFill>
                <a:latin typeface="Calibri"/>
              </a:rPr>
              <a:t>On computable numbers </a:t>
            </a: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– era stato scritto per rispondere al “problema della decidibilità” di Hilbert (1900): </a:t>
            </a:r>
            <a:r>
              <a:rPr b="0" i="1" lang="it-IT" sz="4000" spc="-1" strike="noStrike">
                <a:solidFill>
                  <a:srgbClr val="ffffff"/>
                </a:solidFill>
                <a:latin typeface="Calibri"/>
              </a:rPr>
              <a:t>esiste sempre, almeno in linea di principio, un metodo meccanico </a:t>
            </a: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[si ricordi che nel 1593 Galilei aveva scritto un’opera intitolata </a:t>
            </a:r>
            <a:r>
              <a:rPr b="0" i="1" lang="it-IT" sz="2500" spc="-1" strike="noStrike">
                <a:solidFill>
                  <a:srgbClr val="ffffff"/>
                </a:solidFill>
                <a:latin typeface="Calibri"/>
              </a:rPr>
              <a:t>Le Mecaniche</a:t>
            </a: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it-IT" sz="4000" spc="-1" strike="noStrike">
                <a:solidFill>
                  <a:srgbClr val="ffffff"/>
                </a:solidFill>
                <a:latin typeface="Calibri"/>
              </a:rPr>
              <a:t>(cioè una maniera rigorosa) attraverso cui, dato un qualsiasi enunciato matematico, si possa stabilire se esso sia vero o falso?</a:t>
            </a: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Rispondere al “problema della decidibilità” di Hilbert avrebbe voluto dire nientemeno: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1) risolvere tutti i problemi matematici;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2) ridurre il ragionamento umano a calcolo meccanizzabile.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ffffff"/>
                </a:solidFill>
                <a:latin typeface="Calibri"/>
              </a:rPr>
              <a:t>Nel </a:t>
            </a:r>
            <a:r>
              <a:rPr b="0" i="1" lang="it-IT" sz="2900" spc="-1" strike="noStrike">
                <a:solidFill>
                  <a:srgbClr val="ffffff"/>
                </a:solidFill>
                <a:latin typeface="Calibri"/>
              </a:rPr>
              <a:t>De Arte Combinatoria </a:t>
            </a:r>
            <a:r>
              <a:rPr b="0" lang="it-IT" sz="2900" spc="-1" strike="noStrike">
                <a:solidFill>
                  <a:srgbClr val="ffffff"/>
                </a:solidFill>
                <a:latin typeface="Calibri"/>
              </a:rPr>
              <a:t>(1666) Leibniz, ultimo di una lunga tradizione, aveva creduto, col ridurre i concetti complessi ad un piccolo numero di concetti primitivi ciascuno connotato da un segno, di aver scoperto la lingua universale e perfetta:</a:t>
            </a:r>
            <a:br>
              <a:rPr sz="2900"/>
            </a:br>
            <a:r>
              <a:rPr b="0" lang="it-IT" sz="2900" spc="-1" strike="noStrike">
                <a:solidFill>
                  <a:srgbClr val="ffffff"/>
                </a:solidFill>
                <a:latin typeface="Calibri"/>
              </a:rPr>
              <a:t> un "alfabeto del pensiero umano" (da lui chiamato </a:t>
            </a:r>
            <a:r>
              <a:rPr b="0" i="1" lang="it-IT" sz="2900" spc="-1" strike="noStrike">
                <a:solidFill>
                  <a:srgbClr val="ffffff"/>
                </a:solidFill>
                <a:latin typeface="Calibri"/>
              </a:rPr>
              <a:t>mathesis universalis</a:t>
            </a:r>
            <a:r>
              <a:rPr b="0" lang="it-IT" sz="2900" spc="-1" strike="noStrike">
                <a:solidFill>
                  <a:srgbClr val="ffffff"/>
                </a:solidFill>
                <a:latin typeface="Calibri"/>
              </a:rPr>
              <a:t>).</a:t>
            </a:r>
            <a:br>
              <a:rPr sz="2900"/>
            </a:br>
            <a:r>
              <a:rPr b="0" lang="it-IT" sz="2900" spc="-1" strike="noStrike">
                <a:solidFill>
                  <a:srgbClr val="ffffff"/>
                </a:solidFill>
                <a:latin typeface="Calibri"/>
              </a:rPr>
              <a:t>Stesso farà, nel tentativo di ridurre la matematica a pochi assiomi logici, Bertrand Russell (studioso di Leibniz) coi </a:t>
            </a:r>
            <a:r>
              <a:rPr b="0" i="1" lang="it-IT" sz="2900" spc="-1" strike="noStrike">
                <a:solidFill>
                  <a:srgbClr val="ffffff"/>
                </a:solidFill>
                <a:latin typeface="Calibri"/>
              </a:rPr>
              <a:t>Principia Mathematica </a:t>
            </a:r>
            <a:r>
              <a:rPr b="0" lang="it-IT" sz="2900" spc="-1" strike="noStrike">
                <a:solidFill>
                  <a:srgbClr val="ffffff"/>
                </a:solidFill>
                <a:latin typeface="Calibri"/>
              </a:rPr>
              <a:t>(1913).</a:t>
            </a:r>
            <a:br>
              <a:rPr sz="2900"/>
            </a:br>
            <a:r>
              <a:rPr b="0" lang="it-IT" sz="2900" spc="-1" strike="noStrike">
                <a:solidFill>
                  <a:srgbClr val="ffffff"/>
                </a:solidFill>
                <a:latin typeface="Calibri"/>
              </a:rPr>
              <a:t>E ancora – almeno in parte – Noam Chomsky  con la sua ricerca delle strutture </a:t>
            </a:r>
            <a:r>
              <a:rPr b="0" i="1" lang="it-IT" sz="2900" spc="-1" strike="noStrike">
                <a:solidFill>
                  <a:srgbClr val="ffffff"/>
                </a:solidFill>
                <a:latin typeface="Calibri"/>
              </a:rPr>
              <a:t>innate</a:t>
            </a:r>
            <a:r>
              <a:rPr b="0" lang="it-IT" sz="2900" spc="-1" strike="noStrike">
                <a:solidFill>
                  <a:srgbClr val="ffffff"/>
                </a:solidFill>
                <a:latin typeface="Calibri"/>
              </a:rPr>
              <a:t> (e quindi universali) del linguaggio naturale: </a:t>
            </a:r>
            <a:r>
              <a:rPr b="0" i="1" lang="it-IT" sz="2900" spc="-1" strike="noStrike">
                <a:solidFill>
                  <a:srgbClr val="ffffff"/>
                </a:solidFill>
                <a:latin typeface="Calibri"/>
              </a:rPr>
              <a:t>Syntactic Structures</a:t>
            </a:r>
            <a:r>
              <a:rPr b="0" lang="it-IT" sz="2900" spc="-1" strike="noStrike">
                <a:solidFill>
                  <a:srgbClr val="ffffff"/>
                </a:solidFill>
                <a:latin typeface="Calibri"/>
              </a:rPr>
              <a:t> (1957)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Alla domanda di Hilbert – e alle risposte affermative ad essa riconducibili di Leibniz, Russell e forse anche di Chomsky – ha risposto negativamente – e per ora definitivamente – Kurt Gödel nei suoi due “teoremi di incompletezza” o </a:t>
            </a:r>
            <a:r>
              <a:rPr b="0" i="1" lang="it-IT" sz="4000" spc="-1" strike="noStrike">
                <a:solidFill>
                  <a:srgbClr val="ffffff"/>
                </a:solidFill>
                <a:latin typeface="Calibri"/>
              </a:rPr>
              <a:t>limitativi</a:t>
            </a: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 del 1931, volti (kantianamente) a precisare le proprietà che i sistemi formali </a:t>
            </a:r>
            <a:r>
              <a:rPr b="0" i="1" lang="it-IT" sz="4000" spc="-1" strike="noStrike">
                <a:solidFill>
                  <a:srgbClr val="ffffff"/>
                </a:solidFill>
                <a:latin typeface="Calibri"/>
              </a:rPr>
              <a:t>non</a:t>
            </a: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 possono aver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ffffff"/>
                </a:solidFill>
                <a:latin typeface="Calibri"/>
              </a:rPr>
              <a:t>Semplificando, il</a:t>
            </a:r>
            <a:r>
              <a:rPr b="0" lang="it-IT" sz="2900" spc="-1" strike="noStrike" u="sng">
                <a:solidFill>
                  <a:srgbClr val="ffffff"/>
                </a:solidFill>
                <a:uFillTx/>
                <a:latin typeface="Calibri"/>
              </a:rPr>
              <a:t> primo </a:t>
            </a:r>
            <a:r>
              <a:rPr b="0" lang="it-IT" sz="2900" spc="-1" strike="noStrike">
                <a:solidFill>
                  <a:srgbClr val="ffffff"/>
                </a:solidFill>
                <a:latin typeface="Calibri"/>
              </a:rPr>
              <a:t>teorema afferma che:</a:t>
            </a:r>
            <a:br>
              <a:rPr sz="2900"/>
            </a:br>
            <a:r>
              <a:rPr b="0" i="1" lang="it-IT" sz="2900" spc="-1" strike="noStrike">
                <a:solidFill>
                  <a:srgbClr val="ffffff"/>
                </a:solidFill>
                <a:latin typeface="Calibri"/>
              </a:rPr>
              <a:t>In ogni formalizzazione coerente della matematica che sia sufficientemente potente da poter assiomatizzare la teoria elementare dei numeri naturali — vale a dire, sufficientemente potente da definire la struttura dei numeri naturali dotati delle operazioni di somma e prodotto — è possibile costruire una proposizione sintatticamente corretta che non può essere né dimostrata né confutata all'interno dello stesso sistema.</a:t>
            </a:r>
            <a:br>
              <a:rPr sz="2900"/>
            </a:br>
            <a:r>
              <a:rPr b="0" lang="it-IT" sz="2900" spc="-1" strike="noStrike">
                <a:solidFill>
                  <a:srgbClr val="ffffff"/>
                </a:solidFill>
                <a:latin typeface="Calibri"/>
              </a:rPr>
              <a:t>Il </a:t>
            </a:r>
            <a:r>
              <a:rPr b="0" lang="it-IT" sz="2900" spc="-1" strike="noStrike" u="sng">
                <a:solidFill>
                  <a:srgbClr val="ffffff"/>
                </a:solidFill>
                <a:uFillTx/>
                <a:latin typeface="Calibri"/>
              </a:rPr>
              <a:t>secondo</a:t>
            </a:r>
            <a:r>
              <a:rPr b="0" lang="it-IT" sz="29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i="1" lang="it-IT" sz="2900" spc="-1" strike="noStrike">
                <a:solidFill>
                  <a:srgbClr val="ffffff"/>
                </a:solidFill>
                <a:latin typeface="Calibri"/>
              </a:rPr>
              <a:t>Nessun sistema coerente può essere utilizzato per dimostrare la sua stessa coerenza.</a:t>
            </a:r>
            <a:r>
              <a:rPr b="0" lang="it-IT" sz="29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Ebbene, qualche anno dopo Gödel Turing dimostrerà, a livello informatico e rispondendo negativamente al quesito di Hilbert, qualcosa di molto simile: </a:t>
            </a:r>
            <a:r>
              <a:rPr b="0" i="1" lang="it-IT" sz="2800" spc="-1" strike="noStrike">
                <a:solidFill>
                  <a:srgbClr val="ffffff"/>
                </a:solidFill>
                <a:latin typeface="Calibri"/>
              </a:rPr>
              <a:t>non</a:t>
            </a: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 esiste sempre, nemmeno in linea di principio, un metodo meccanico (cioè una maniera rigorosa) attraverso cui, dato un qualsiasi enunciato matematico, si possa stabilire se esso sia vero o falso.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Infatti: non è sempre possibile, descritto un programma e un determinato input finito, stabilire se il programma in questione termini o si ripeta all'infinito. Non può esistere un algoritmo generale che possa risolvere il problema per tutti i possibili input. 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Oltre alla “macchina ideale” Turing – prima che esistesse un solo computer ma dopo qualcosa di simile escogitato da Cartesio nel </a:t>
            </a:r>
            <a:r>
              <a:rPr b="0" i="1" lang="it-IT" sz="3200" spc="-1" strike="noStrike">
                <a:solidFill>
                  <a:srgbClr val="ffffff"/>
                </a:solidFill>
                <a:latin typeface="Calibri"/>
              </a:rPr>
              <a:t>Discorso sul metodo </a:t>
            </a: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del 1637 – inventò anche un </a:t>
            </a:r>
            <a:r>
              <a:rPr b="0" i="1" lang="it-IT" sz="3200" spc="-1" strike="noStrike">
                <a:solidFill>
                  <a:srgbClr val="ffffff"/>
                </a:solidFill>
                <a:latin typeface="Calibri"/>
              </a:rPr>
              <a:t>test </a:t>
            </a: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per stabilire se una macchina può pensare (come aveva ritenuto La Mettrie nel 1747 riducendo l’uomo a macchina ne </a:t>
            </a:r>
            <a:r>
              <a:rPr b="0" i="1" lang="it-IT" sz="3200" spc="-1" strike="noStrike">
                <a:solidFill>
                  <a:srgbClr val="ffffff"/>
                </a:solidFill>
                <a:latin typeface="Calibri"/>
              </a:rPr>
              <a:t>L'Homme machine</a:t>
            </a: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): una macchina penserebbe se è impossibile  distinguere, in un dialogo scritto, se ci si trova di fronte a un interlocutore umano o a un artefatto.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alibri"/>
              </a:rPr>
              <a:t>In Cina dal 2000 a. C. – mille anni prima dell’</a:t>
            </a:r>
            <a:r>
              <a:rPr b="1" i="1" lang="it-IT" sz="2200" spc="-1" strike="noStrike">
                <a:solidFill>
                  <a:srgbClr val="ffffff"/>
                </a:solidFill>
                <a:latin typeface="Calibri"/>
              </a:rPr>
              <a:t>alfabeto</a:t>
            </a:r>
            <a:r>
              <a:rPr b="1" lang="it-IT" sz="2200" spc="-1" strike="noStrike">
                <a:solidFill>
                  <a:srgbClr val="ffffff"/>
                </a:solidFill>
                <a:latin typeface="Calibri"/>
              </a:rPr>
              <a:t> fenicio: che anch’esso, come i numeri/quantità, suddivide la realtà in pezzi (le lettere) uguali ma all’infinito ripetibili e combinabili in modo diverso  – si era risposto alla domanda (cui oggi risponde l’informatica): </a:t>
            </a:r>
            <a:r>
              <a:rPr b="1" i="1" lang="it-IT" sz="2200" spc="-1" strike="noStrike">
                <a:solidFill>
                  <a:srgbClr val="ffffff"/>
                </a:solidFill>
                <a:latin typeface="Calibri"/>
              </a:rPr>
              <a:t>Come si può automatizzare efficientemente un dato processo?</a:t>
            </a:r>
            <a:br>
              <a:rPr sz="2200"/>
            </a:br>
            <a:r>
              <a:rPr b="1" lang="it-IT" sz="2200" spc="-1" strike="noStrike">
                <a:solidFill>
                  <a:srgbClr val="ffffff"/>
                </a:solidFill>
                <a:latin typeface="Calibri"/>
              </a:rPr>
              <a:t>L’abaco era una “tavoletta” e anche l’i-Pad, 4 millenni dopo, viene detto “tablet”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1332000" y="4437000"/>
            <a:ext cx="2857320" cy="2276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309240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In quella branca della filosofia contemporanea che si chiama “filosofia della mente” e che si rifà alle questioni poste da Cartesio col suo dualismo mente/corpo – per cui alcuni sono dualisti, altri riduzionisti/materialisti ecc. – c’è anche chi ha ritenuto di concepire la mente (o anima o coscienza) come una macchina di Turing, cioè un computer. Secondo il “funzionalismo” (o “pragmatismo”) di Putnam (1950) – da cui derivano le attuali “scienze cognitive” e gli studi di “intelligenza artificiale” – la mente starebbe al corpo come il software all’hardware.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Purché tu abbia una certa organizzazione logico-algoritmica penseresti e avresti coscienza anche se il tuo cervello fosse fatto di formaggio svizzero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4646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alibri"/>
              </a:rPr>
              <a:t>Chi, nel corso dei millenni, si è occupato di applicare calcoli (o informazioni) a strumenti – o l’astratto al concreto, la geometria all’ingegneria, la matematica all’esperienza, il software all’hardware – </a:t>
            </a:r>
            <a:r>
              <a:rPr b="0" i="1" lang="it-IT" sz="3600" spc="-1" strike="noStrike">
                <a:solidFill>
                  <a:srgbClr val="ffffff"/>
                </a:solidFill>
                <a:latin typeface="Calibri"/>
              </a:rPr>
              <a:t>e viceversa </a:t>
            </a:r>
            <a:r>
              <a:rPr b="0" lang="it-IT" sz="3600" spc="-1" strike="noStrike">
                <a:solidFill>
                  <a:srgbClr val="ffffff"/>
                </a:solidFill>
                <a:latin typeface="Calibri"/>
              </a:rPr>
              <a:t>si è occupato, almeno in linea di principio, di quella che dal 1962 – l’epoca della “terza rivoluzione industriale”: l’elettronica  – si chiama “informatica”.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L’informatica è dunque quella disciplina che risponde alla domanda: </a:t>
            </a:r>
            <a:r>
              <a:rPr b="0" i="1" lang="it-IT" sz="4000" spc="-1" strike="noStrike">
                <a:solidFill>
                  <a:srgbClr val="ffffff"/>
                </a:solidFill>
                <a:latin typeface="Calibri"/>
              </a:rPr>
              <a:t>Come si può automatizzare efficientemente un dato processo? </a:t>
            </a: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Ovvero: Come si può trattare l’INFORMAZIONE </a:t>
            </a:r>
            <a:r>
              <a:rPr b="0" i="1" lang="it-IT" sz="4000" spc="-1" strike="noStrike">
                <a:solidFill>
                  <a:srgbClr val="ffffff"/>
                </a:solidFill>
                <a:latin typeface="Calibri"/>
              </a:rPr>
              <a:t>sia</a:t>
            </a: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 sottoforma di COMPUTAZIONE (logica, matematica, software: lo studio sistematico dei processi </a:t>
            </a:r>
            <a:r>
              <a:rPr b="0" i="1" lang="it-IT" sz="4000" spc="-1" strike="noStrike">
                <a:solidFill>
                  <a:srgbClr val="ffffff"/>
                </a:solidFill>
                <a:latin typeface="Calibri"/>
              </a:rPr>
              <a:t>algoritmici</a:t>
            </a: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) </a:t>
            </a:r>
            <a:r>
              <a:rPr b="0" i="1" lang="it-IT" sz="4000" spc="-1" strike="noStrike">
                <a:solidFill>
                  <a:srgbClr val="ffffff"/>
                </a:solidFill>
                <a:latin typeface="Calibri"/>
              </a:rPr>
              <a:t>sia</a:t>
            </a: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 sottoforma di IMPLEMENTAZIONE (pratica, hardware).  </a:t>
            </a:r>
            <a:r>
              <a:rPr b="0" i="1" lang="it-IT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Concettualmente l’informatica è un prodotto del passaggio – avvenuto con quella che anche per ciò si chiama “Rivoluzione scientifica” – dal Medioevo “qualitativo” (nella trattazione di spazio, tempo, numero) al moderno “quantitativo” o digitale (che misura i fenomeni riducendoli e scomponendoli in valori discreti e non continui)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66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Dunque, che cosa fa l’informatica – o l’automazione più efficiente di un processo – all’informazione?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1) la rappresenta (digitalizza);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2) la memorizza/organizza/reperisce;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3) la trasmette;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4) la elabora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Ma che cos’è l’informazion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Nel Novencento un’intera disciplina – anche se non usando programmaticamente la parola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informazione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 – sembra essersi occupata, da Peirce ad Eco, di rispondere a questa domanda: la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semiotica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; la disciplina che studia i fenomeni di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significazione </a:t>
            </a: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e di </a:t>
            </a: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comunicazione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54:11Z</dcterms:created>
  <dc:creator>Tommaso</dc:creator>
  <dc:description/>
  <dc:language>en-US</dc:language>
  <cp:lastModifiedBy>Tommaso</cp:lastModifiedBy>
  <dcterms:modified xsi:type="dcterms:W3CDTF">2011-12-17T17:45:46Z</dcterms:modified>
  <cp:revision>78</cp:revision>
  <dc:subject/>
  <dc:title>Diapositiva 1</dc:title>
</cp:coreProperties>
</file>