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C39-5653-4BAD-A036-75862F5C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FDDA-5944-42FE-BF70-02598FE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8C6-C069-443C-BF88-FC532945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FC7-BDFE-4FAE-9586-8C1DFE0F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C4F1-4BEF-4ADF-BBF9-BE4EE4DC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DA97-396A-421D-B297-A03F5E30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EEDF-68C3-4D56-BC90-4C1C0872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76F0-0478-49CD-A0E1-A1FD0A1F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5278-5DD5-4624-9FC9-4BE296C5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8EA5-547B-4748-8A09-9F67BC6C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06C1-E0C8-410F-BF5A-3507BFA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5F3-D506-4241-8381-E787E057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0C9F-84C6-4268-81D7-AA3DEC25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0B07-BD64-4485-88C0-0D3D3583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0D0D-3194-44A2-9F6F-58B03E77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3363-15F1-4D41-A2CF-7C68ED94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CA4-4F81-4014-BA56-65F2D9EE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C7664-7B13-4BCF-B98D-8A6FAA0C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0D0D5-7826-49F2-8EE1-DC3AC0A9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558CC-1C54-4A1C-A2DA-C3A097C1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E4A5A-A2ED-4ABF-940A-54D7CE98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E7CBF-7FFA-4DB2-AE2E-092D61BC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778-7D65-4E80-AC7F-5970F3DF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E0E16-FA86-42DD-8EB7-C13376BE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94D10-4D78-4F00-A57C-D21786B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EA225-A994-4C25-B219-061D1E95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55064-51BA-452C-9581-42A532D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B1DC1-642C-4A79-A776-A45B59AF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9FDEF-35F8-4EC2-945C-D6D56D57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1F345-777A-4D85-BCA8-DFF42CD0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284CA-6C38-4AD8-AB37-049993BB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A204D3-2FC4-49DF-BC37-E3B9F05C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B419A-0663-4DBC-BEB0-FBDA9F5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D6F-36A5-4D2B-80E9-CA42AD63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50368F-2FF0-4E33-AB7E-673DBAD4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0BC56-B266-4E03-9B88-52A670C2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19814-E0CA-4973-82CE-E64BBB0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D73C2-14C6-4403-9495-6D789B73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CDEC9-C9CD-4C08-BDCE-98CE0A38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D8F9F-4326-4FD3-AA4F-9B047B07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2AE5D-C9CD-43AC-BFA7-8398FB8C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7F784F-B109-4AAC-8914-8C2D5924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43E41-EC26-4C15-9F33-5B5F26BA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46C97-0398-4DC0-9D74-C778E33D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ECF-021E-4D40-9444-F8D1E489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71B1B-3A8A-4000-B3F8-7E6D5AF7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4BBA4-AACE-4ECD-B792-A9E49CC4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FDDECF-61F5-4432-9444-BE627E42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A3489-0D54-4DD0-A036-1EE80C0C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311EB-4F1F-417F-86C5-EE03C28F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AC9F6-7DC8-4C22-8BCE-64797D79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C43A7-97F5-4CF4-9CCF-AFA2FACE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2FE9C-8AC5-4C1F-8EA5-9ACE822A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3F654-00CC-4168-9130-9B30A1F0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3BDBA-C58D-43B2-AAC6-28BDC06A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51E-1585-4B5D-AB62-C0EA9E1E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8488E-51AE-4F4D-9F89-8DEBB41C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07388-0743-4802-9DAE-25A9F62D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8616-1F26-4D87-B42E-8313C931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658CA-A691-4BA9-87C6-C2DEC18B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5A0E3-F45C-4B56-BE6C-556821A7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A840-28EC-47E1-89AF-4651B614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B04A9-0355-40A5-9F31-25BEF8B8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30DA4-580F-4285-9184-81F97DC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69476-D6C1-4130-A88A-81D1CEB0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F0833-8C9B-44E1-B312-D839AAE6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194-77F0-41B3-B82D-62FD8373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D8AE1-04D6-400B-9CDB-94219CEC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038A8-356A-4331-8F22-907F84AA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06F7C-9451-4A67-8733-7A5D6E29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675631-77EA-4B4B-9D4C-5D4AEA13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01ECD-D032-402E-9C1D-30BADEC1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605C0-9B08-4091-B3DC-C1C4C723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602DCF-E646-4DC6-BDBD-E5938BD0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7723C-439A-483A-A2FF-3A358DA7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6936B-03A1-484C-B062-90E0F0F2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A51ACB-1F5A-46A1-926E-F11BF4D6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FB9-55EE-4C2B-BE24-B5C60AB8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58ED7-18B0-452D-AB37-F2A7C1F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99CFE-9D29-45C9-BD61-D1E27EAC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74935-6FFD-4752-85C9-4FD56FBC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BF07C-63B5-4451-8161-E1C36071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0317F-94E2-46A0-B691-869E210A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7D458-F070-4439-B991-0994CFD6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076FE-C6D6-45E2-A4B0-3C77934C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D9C51-5160-4F75-8A71-30A2DE6D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447C7-8758-4FA8-B7A7-C139FB2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A75C9-0790-47D4-B5FF-843F52E7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202-E42F-4309-9A0F-D7642D5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F8F1-7B93-40AD-AAAB-B8F7AEEB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8A67F-E24B-4627-B1B3-FA70AAC6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3021B-FAB7-4B31-BB0F-06E86706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42A49-3708-490F-BD80-A2470FA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E8C94-6CB2-4309-B204-6F5476C8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289EE-BAFC-40DC-8997-6AEE5367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5CAAC-AADB-48EE-9176-7D321A86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ttango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ttango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ttango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F0BB-5DB6-46BD-AE81-1C8E4A1BC9C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tangolo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ttangolo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ttangolo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2DC9-A66B-4E2D-97A0-36EEDE3FE702}" type="slidenum">
              <a:rPr b="1" lang="it-IT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tangolo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ttangolo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ttangolo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F34D-363F-4587-98BF-C3548928A3C2}" type="slidenum"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tango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ttango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ttango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7E4C-F128-4AE6-87C0-712909C8801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tangolo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ttangolo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ttangolo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907-20A8-4152-93A2-944609E27C1D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BA5A-9AED-43C7-9D75-05C6D37C8D77}" type="slidenum">
              <a:rPr b="1" lang="it-IT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ttangolo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ttangolo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ttangolo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ttangolo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379-5B6B-4B63-8465-75E7F610EBC8}" type="slidenum"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ttangolo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ttangolo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ttangolo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EF4E-A3F7-4C3B-B917-6961A4CB48A7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2580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75f55"/>
                </a:solidFill>
                <a:latin typeface="Tw Cen MT"/>
              </a:rPr>
              <a:t>Verità ed opinione da Platone agli empiristi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8760" y="2285640"/>
            <a:ext cx="403992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Immutabil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Universalmente valid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Certa e dimostrabil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Essenz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Contemplazione solitari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Un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w Cen MT"/>
              </a:rPr>
              <a:t>Etern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3280" y="2285640"/>
            <a:ext cx="4043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w Cen MT"/>
              </a:rPr>
              <a:t>Soggetta a cambiamento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w Cen MT"/>
              </a:rPr>
              <a:t>Radicata in una prospettiv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w Cen MT"/>
              </a:rPr>
              <a:t>Provvisoria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w Cen MT"/>
              </a:rPr>
              <a:t>Ciò che appare (apparenza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w Cen MT"/>
              </a:rPr>
              <a:t>Presenza degli altri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w Cen MT"/>
              </a:rPr>
              <a:t>Pluralità (delle prospettive sul mondo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w Cen MT"/>
              </a:rPr>
              <a:t>Limitata nel tempo e nello spazio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28760" y="1000080"/>
            <a:ext cx="4068720" cy="10000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w Cen MT"/>
              </a:rPr>
              <a:t>Platone (e razionalisti in genere): le caratteristiche della “verità” (</a:t>
            </a:r>
            <a:r>
              <a:rPr b="1" i="1" lang="it-IT" sz="1800" spc="-1" strike="noStrike">
                <a:solidFill>
                  <a:srgbClr val="ffffff"/>
                </a:solidFill>
                <a:latin typeface="Tw Cen MT"/>
              </a:rPr>
              <a:t>episteme</a:t>
            </a:r>
            <a:r>
              <a:rPr b="1" lang="it-IT" sz="1800" spc="-1" strike="noStrike">
                <a:solidFill>
                  <a:srgbClr val="ffffff"/>
                </a:solidFill>
                <a:latin typeface="Tw Cen MT"/>
              </a:rPr>
              <a:t>) o conoscenza filosofica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785520"/>
            <a:ext cx="4043520" cy="15001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w Cen MT"/>
              </a:rPr>
              <a:t>Platone: le caratteristiche della “opinione” (</a:t>
            </a:r>
            <a:r>
              <a:rPr b="1" i="1" lang="it-IT" sz="1400" spc="-1" strike="noStrike">
                <a:solidFill>
                  <a:srgbClr val="ffffff"/>
                </a:solidFill>
                <a:latin typeface="Tw Cen MT"/>
              </a:rPr>
              <a:t>doxa</a:t>
            </a:r>
            <a:r>
              <a:rPr b="1" lang="it-IT" sz="1400" spc="-1" strike="noStrike">
                <a:solidFill>
                  <a:srgbClr val="ffffff"/>
                </a:solidFill>
                <a:latin typeface="Tw Cen MT"/>
              </a:rPr>
              <a:t>) – che coincidono con le caratteristiche del sapere (“verità” in senso platonico non dandodisi) per gli empiristi in genere: 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5:15:26Z</dcterms:created>
  <dc:creator>Tommaso</dc:creator>
  <dc:description/>
  <dc:language>en-US</dc:language>
  <cp:lastModifiedBy>Tommaso</cp:lastModifiedBy>
  <dcterms:modified xsi:type="dcterms:W3CDTF">2010-03-22T05:31:15Z</dcterms:modified>
  <cp:revision>3</cp:revision>
  <dc:subject/>
  <dc:title>Diapositiva 1</dc:title>
</cp:coreProperties>
</file>