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7A1-559E-4EA1-85DE-2A360A42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7C8-B028-4FAE-A769-4B57E29B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C7E-53CE-4D4C-BA6E-B863DF8C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9D6-7F54-4973-BB21-6E19D05A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EB2-B8ED-4D52-82FF-C58876A7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D932-5A8B-4176-968B-21D6AAF3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074-D861-4BA2-B831-DB6585FD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469E-9FF5-482F-B653-CDC7B20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181F-8919-4536-B183-B6A5814A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624-0E21-4FAA-8C03-EC95D069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2ABB-2DEB-4F87-9E58-283FC06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561-3961-42A2-93CE-0BCBBDB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4E78-B17D-47AF-99F5-8B18A7A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F54A-7AB3-463A-B083-FE2A7F4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29BC-11E7-4E84-A88F-18E99D49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E4B-0698-41C5-9B8A-3ACDAAD9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E04-8FEB-4695-B3A5-3FDAC2C9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F708-981C-45AC-8712-DE7B5FD5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E765-B6DD-4E05-A95A-DC776766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CECD-7DA8-4762-9EC8-371B4823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2E2DF-69FF-48BF-B7DF-43908F5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4FBB-CB4F-4D6C-B5F7-BF41D439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34F-54BE-4030-A06A-9E942F61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206B-EA4F-4301-8252-C6D289AD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B391-0428-4B64-92D1-99FBC4E7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F7B9-933B-4620-87C5-9F9E656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DF23-1A39-49D4-9168-E519E302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2DE6-A186-47B3-9DAC-8E42132E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BCD0-5440-4382-A4CB-814C82FD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E7CB-8201-4454-A29B-B3FCBE3D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BE55-809D-4147-8255-6B0938AB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2746-71E9-4913-A711-1DC77D16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E2D90-0F5F-40A8-8BE5-4831ECD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9B9-224A-4565-8B6F-1B7984B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3A97-63AB-4B0D-8FE8-26F3EDE1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8A8C-54D0-4031-87B9-F153E07B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3181D-34E7-41AB-BE69-5D5FCFF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60ED0-336B-4BF0-AD34-9CC9399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01D4-6102-4842-ADE1-2B5A689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96A3-B96E-4E22-86DA-5C47D28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8056-0D40-44E8-AC52-DD14E53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FC634-30E8-4418-99D7-24CE2521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FD62-E039-4492-AEFF-ACF88B4A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79B-647C-480E-85DB-D81FE4C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154-9D33-4271-B3CD-DCEEFBC8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24C-1618-4C02-8434-2C0E26C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68C-8ADF-4513-8B5A-E168849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DE9-891F-4D2E-AF20-67884FB1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F80A-D81E-4B85-8D5E-40C298D11DA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8C6-385E-432C-BC28-58613C122065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83F3-B7F0-4F95-8326-1F7C7B103297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448A-1B7C-4F58-BC8A-577818B4B3C7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4617b"/>
                </a:solidFill>
                <a:latin typeface="Calibri"/>
              </a:rPr>
              <a:t>Caratteristiche della filosofia modern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8400" y="713880"/>
            <a:ext cx="825804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Perché in età moderna ci si interroga sistematicamente sulla conoscenza (o intelletto o ragione) e non, a differenza della metafisica tradizionale, sul contenuto della conoscenza? Perché l’attenzione si è spostata dall’oggetto (o mondo) al soggetto (conoscente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Perché c’è stato Descartes. Interrogarsi sulla “cosa”, interrogare la “cosa”, dando per scontata la problematica del “come” la conosciamo o ci approcciamo ad essa – risulta dar </a:t>
            </a:r>
            <a:r>
              <a:rPr b="0" i="1" lang="it-IT" sz="1800" spc="-1" strike="noStrike">
                <a:solidFill>
                  <a:srgbClr val="000000"/>
                </a:solidFill>
                <a:latin typeface="Constantia"/>
              </a:rPr>
              <a:t>troppo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 per scontato; equivale a non far filosofia, che così passa (e Kant lo ufficializza) da metafisica o teoria della sostanza/essenza a epistemologia o teoria del conoscere. È questa la rivoluzione di Descartes e di chi lo ha seguito rispetto al precedente millennio aristotelico che assumeva senza interrogarsi adeguatamente sull’assunto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Da qui l’illuminismo o la consapevolezza dei “limiti della ragione” e l’indagine volta a stabilirli – quantificarli e qualificarli.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20:59Z</dcterms:created>
  <dc:creator>Tommaso</dc:creator>
  <dc:description/>
  <dc:language>en-US</dc:language>
  <cp:lastModifiedBy>Tommaso</cp:lastModifiedBy>
  <dcterms:modified xsi:type="dcterms:W3CDTF">2010-03-21T17:36:48Z</dcterms:modified>
  <cp:revision>3</cp:revision>
  <dc:subject/>
  <dc:title>Diapositiva 1</dc:title>
</cp:coreProperties>
</file>