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514-2193-4996-8D15-6B2FF730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304-E75C-4F8D-8883-BCDCBECA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AEAD9B-42DC-49C7-9830-8BD0319C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4B5CC5-731F-4699-B946-5BBAE114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42B396-6964-498F-BE0D-34212879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EE270B-48C3-4E59-AB32-3771EB6C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9FC21-C430-4B35-AF30-BB4D836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5A288F-F873-4AD0-825F-6C8AC5F9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1209F9-E9EF-4D03-A37C-738A4851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09DEF-B059-4635-A288-37B7C013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85BC3C-955C-4256-A5A4-E126466F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3B4-7301-429E-8938-CA7C4F42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463-8F19-46F9-9B89-9D736E1A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3D816-68A3-4C6B-96FD-60C6E216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61112-84D7-4951-BAFB-234C06A6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9E33B-4A44-4C52-89B0-0C7238C6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3FAB1-51DC-46C7-882C-6E5B06CF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97AEF-77B1-45E1-91E7-812A8B91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E8A3D-8841-4603-9C51-8D75AB19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62B38-23F3-444D-BF1A-89F44437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170-C271-4E7C-8D0F-5FC8E432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09AF9-4CE7-4D6A-B840-3C918C7A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8FDCC-922B-4B2D-9D44-965325F1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5CD21-7EC3-439C-A37F-8D366A6F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F5FF3-B162-4E87-AE4B-131E5F3D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A9437-D2C9-4390-A644-2698D551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8B12-02C6-4956-8292-0F545F02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F170-E67A-42D7-9465-39CB1C63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950B-0D7D-4D3D-9C92-32873186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FE20C-711D-4327-8AFC-6A5E4025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7344-42AE-4A26-84D5-88A53B61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1B7-90A2-4479-96FF-A58760B1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CBD9-F0E6-47CF-A5BA-32ADA14C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9379-51D8-44D8-A26F-7C2C2E28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B071A-8714-4970-B48D-1BBD7570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B090-88AC-4615-9ECD-2C54B879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CA0D9-27E7-4704-8D35-8176275B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9DBD-FB25-4DB9-BB4D-C5EE2001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3F37-39B5-42AD-A786-71E61F6A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66802-184A-4E6F-9969-245B2166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453A5-8530-4238-A71F-08797CE0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78033-235D-47B2-8C8F-1C764C16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26E-B23D-45F7-A0F2-D2D38147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B05E9-9425-4B10-BCBF-06658F73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090A5F-9B4F-476C-B95F-29850929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715E8-7AE6-4287-AC78-3883C780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C086C-733F-4FF3-814F-9CFF2218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89401-0023-402E-B9F0-E7566B86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D797C-7474-4698-AB08-B2F199FA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7A463-0F56-4E2D-B35B-75FF2F8A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298A9-EA42-4E5F-BFA3-657D4DB0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FF415-C520-463A-89CE-77CF6A57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C1DAA-E58A-4059-AFB0-6A733572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696-CCC5-42B3-A974-A32B4845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95BD8-C3C2-4397-8354-126010B9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5991C-79C0-4464-A2EE-EDA69741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9FD92-7290-4BEC-9310-B52F882A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9ADA-30F7-47CA-A685-2A443DC8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BF335-1C36-48B4-9E75-A702B1B0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D5356-CAF2-4330-AE23-2DF9130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95E54-EEDF-447F-8D38-AA0FB754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6A1FF-5EB9-4989-8092-DF40B6F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7A434-72DD-4BCF-AC36-8DAC806E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54103-13D6-48C1-ADC0-0FAC71F0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D08-984D-44AC-B8F0-91394036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EB4FC-4BFB-4B00-985A-1925DB08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B4D3E-D6B6-44DF-B3C8-D47AE2C4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AFF37-E13E-495D-A3EA-E8B665AB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96AC7-36FF-4948-9D2D-214A991F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2C666-B8C0-463E-ACDD-AED22B35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6910C-971B-468E-AE26-761EB5E1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B4C92-1698-43FE-969C-F798AF52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D3C65-BCFB-485C-B5B7-44D6DCA6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A5C68-82EF-4E79-9D10-B33C9140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2AE7-CAF2-4227-9555-A26C5406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67C-3066-4EEE-AE74-A375C430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7E3BD-C73C-46FB-A6F4-3110EDBF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F4F9-DB6C-4A53-AA63-BD5B5FC6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D1B69-25F7-4181-AD56-84485F40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18C96-6422-42D9-83C7-CC4E7662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594D9-8336-41E9-B7CE-1152392D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63655-C552-4FCD-ADFC-F2E3889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D7B1B-D58F-49CE-8E82-FBF07433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8F1CF-E89B-4069-B2AD-05008899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86D51-F4F8-4EBC-B589-4534395D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628C3-25CB-4A81-B0E8-CBA9D2E8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91E-7E0B-4AFA-9AAA-FD41597C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7DD49-5C6C-48BC-9E04-F1E73A44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8D864-0823-42BB-90A1-6ACDF374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24A7E-F470-4D6B-A0E8-471A110C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AB691-1DDD-4D8E-BD4A-B3FF3391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FFCF1-B984-4C9D-A5D1-9B52C282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CD0605-4D1B-4E76-81F6-26D5811C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B5F44-F042-4B71-A274-EA0654E4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40C1F8-1663-4C1C-904D-02BEC177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EE82F2-CA2F-4B04-A899-0F921254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EB1C6D-14F8-41A7-AA25-91EF15D9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5D3-30B1-4218-9F74-10B61C56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45269-FE17-4FA0-9250-5BD69D6E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E8BF60-6743-465C-A2E4-C77BF424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AE82CF-E78B-4374-9BF1-FD4F9EC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D51A99-EB74-4CD6-A23B-02DC7D6B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D6A5A0-1A5D-4849-8A49-652A6B0D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7913D1-63FB-4F69-A019-3BF1348F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280381-948B-4710-BDAA-F5AC2B1F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24CA09-848F-4ED6-86E6-805B9B78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2BFD64-8DD7-4B34-BC10-DABEA82B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A53855-6B89-4C5B-B843-C46B779C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tonda angolo diagonale rettangolo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tonda angolo diagonale rettangolo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DFA0-0CEE-4DA6-9D3B-F09FEB1D1958}" type="slidenum">
              <a:rPr b="0" lang="it-IT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tonda angolo diagonale rettangolo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tonda angolo diagonale rettangolo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91EC-4128-4924-A202-26CF2E881D6A}" type="slidenum">
              <a:rPr b="0" lang="it-IT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tonda angolo diagonale rettangolo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tonda angolo diagonale rettangolo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ttangolo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C1D9-637E-4664-BBF6-DD296A7ED802}" type="slidenum">
              <a:rPr b="0" lang="it-IT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tangolo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65BE-5D0E-4EB8-B6D5-1019F83FA8DF}" type="slidenum">
              <a:rPr b="0" lang="it-IT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tonda angolo diagonale rettangolo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tonda angolo diagonale rettangolo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ttangolo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42E3-1FA5-4670-BF91-15FAD5F39B12}" type="slidenum">
              <a:rPr b="0" lang="it-IT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tonda angolo diagonale rettangolo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tonda angolo diagonale rettangolo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ttangolo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ttangolo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14D5-929C-4868-B022-CCB61A43AA5E}" type="slidenum">
              <a:rPr b="0" lang="it-IT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tonda angolo diagonale rettangolo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tonda angolo diagonale rettangolo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ttangolo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6D66-803D-47FC-AD71-1F3A226236A3}" type="slidenum">
              <a:rPr b="0" lang="it-IT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ttangolo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8AA1-116B-4864-8945-C56C14E09A30}" type="slidenum">
              <a:rPr b="0" lang="it-IT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0D2F-2B0C-4649-AF19-07C009CADD2C}" type="slidenum">
              <a:rPr b="0" lang="it-IT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olo 3" descr=""/>
          <p:cNvPicPr/>
          <p:nvPr/>
        </p:nvPicPr>
        <p:blipFill>
          <a:blip r:embed="rId1"/>
          <a:stretch/>
        </p:blipFill>
        <p:spPr>
          <a:xfrm>
            <a:off x="493560" y="-55440"/>
            <a:ext cx="8448840" cy="853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3997440" cy="13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Rockwell"/>
              </a:rPr>
              <a:t>RAZIONALISMI</a:t>
            </a:r>
            <a:r>
              <a:rPr b="0" lang="it-IT" sz="1800" spc="-1" strike="noStrike">
                <a:solidFill>
                  <a:srgbClr val="ffffff"/>
                </a:solidFill>
                <a:latin typeface="Rockwell"/>
              </a:rPr>
              <a:t>: UNA SUB-STANTIA (O VERITÀ O REALTÀ) STA DIETRO CIÒ CHE APPARE ED È PERCEPITO  </a:t>
            </a:r>
            <a:r>
              <a:rPr b="0" lang="it-IT" sz="2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43280" y="357120"/>
            <a:ext cx="404208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90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Rockwell"/>
              </a:rPr>
              <a:t>EMPIRISMI</a:t>
            </a:r>
            <a:r>
              <a:rPr b="0" lang="it-IT" sz="1500" spc="-1" strike="noStrike">
                <a:solidFill>
                  <a:srgbClr val="ffffff"/>
                </a:solidFill>
                <a:latin typeface="Rockwell"/>
              </a:rPr>
              <a:t>: NON È NECESSARIO POSTULARE NULLA DI SPECIALE DIETRO CIÒ CHE APPARE ED È PERCEPITO; NON ESISTONO “SOSTANZE” O ESSENZE MA COMPLESSI DI SEMPLICI DATI DI SENSO.   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Rockwell"/>
              </a:rPr>
              <a:t>Descartes: dualistico </a:t>
            </a:r>
            <a:r>
              <a:rPr b="0" lang="it-IT" sz="1800" spc="-1" strike="noStrike">
                <a:solidFill>
                  <a:srgbClr val="ffffff"/>
                </a:solidFill>
                <a:latin typeface="Rockwell"/>
              </a:rPr>
              <a:t>(res cogitas e res extensa)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Rockwell"/>
              </a:rPr>
              <a:t>Spinoza: monistico </a:t>
            </a:r>
            <a:r>
              <a:rPr b="0" lang="it-IT" sz="1800" spc="-1" strike="noStrike">
                <a:solidFill>
                  <a:srgbClr val="ffffff"/>
                </a:solidFill>
                <a:latin typeface="Rockwell"/>
              </a:rPr>
              <a:t>(2 modi 1 sostanza)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Rockwell"/>
              </a:rPr>
              <a:t>Leibniz: monadico </a:t>
            </a:r>
            <a:r>
              <a:rPr b="0" lang="it-IT" sz="1800" spc="-1" strike="noStrike">
                <a:solidFill>
                  <a:srgbClr val="ffffff"/>
                </a:solidFill>
                <a:latin typeface="Rockwell"/>
              </a:rPr>
              <a:t>(infiniti atomi spirituali) 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4720" y="236196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Rockwell"/>
              </a:rPr>
              <a:t>Locke: realistico</a:t>
            </a: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 (c’è un soggetto che esperisce da una parte e una realtà esperita dall’altra; anche se il primo ha un rapporto empirico con la seconda)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Rockwell"/>
              </a:rPr>
              <a:t>Berkeley: idealistico </a:t>
            </a: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(nessun dualismo soggetto/oggetto o soggetto/realtà; tutto si riduce al soggetto e al suo insieme di percezioni)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Rockwell"/>
              </a:rPr>
              <a:t>Hume: scettico </a:t>
            </a:r>
            <a:r>
              <a:rPr b="0" lang="it-IT" sz="1700" spc="-1" strike="noStrike">
                <a:solidFill>
                  <a:srgbClr val="ffffff"/>
                </a:solidFill>
                <a:latin typeface="Rockwell"/>
              </a:rPr>
              <a:t>(prendo atto dell’esistenza di percezioni e dell’assurdità di porsi interrogativi sull’esistenza di qualsiasi altra cosa o dimensione)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3:05Z</dcterms:created>
  <dc:creator>Tommaso</dc:creator>
  <dc:description/>
  <dc:language>en-US</dc:language>
  <cp:lastModifiedBy>Tommaso</cp:lastModifiedBy>
  <dcterms:modified xsi:type="dcterms:W3CDTF">2010-03-21T17:20:14Z</dcterms:modified>
  <cp:revision>4</cp:revision>
  <dc:subject/>
  <dc:title>Diapositiva 1</dc:title>
</cp:coreProperties>
</file>